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chimes.wav" ContentType="audio/x-wav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367DF-37DF-44D9-AB65-3A7B712E4F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E0267-5513-4D2E-BE04-6481A76AA0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EF1B-C16A-443F-81E5-D82D2293F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8A81-A40C-45D2-ADBD-E8A1F80936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E29D1-94A5-4E08-B5E1-26FCDAC693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482FF-5D90-4907-8D2A-C727A052D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1B01-F9EC-46EA-9342-F54CD1CDED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158D-0925-4CD6-BB3D-0FAFB80B32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06C-0CEB-410B-9669-835B28D2A1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7FB-A88D-46B7-A1BD-878B4C92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D818-C5B1-400E-A0C0-F9AFBEA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6FE-FA12-494E-8177-49F8CD19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6660-7FE4-4882-81A1-CA6C2615B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A7D71-A166-4F3C-B5FA-3055350B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E215-8BFC-45BC-9D55-E513CDF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02106-25E1-4F42-910E-03509EA12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CE44-BF16-4DC9-8344-4BEACFC2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9D6B-318F-41ED-AED0-2850D2E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6635-C81E-4EBD-91B0-09F9E108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1ADE-03F8-4DEC-8634-10BB7C16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962-63FC-484D-B664-8E4B4FF2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5FFD-FA47-4208-B05B-13024F5A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C024-8791-444B-9457-1AEDE18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3826-DCD8-4D15-801D-2902998B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FAA3F-A1DB-4067-8946-95F9B7A1A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4763-E9EB-4051-BDE2-C4D68022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83AE-39EB-4ABF-BE62-1A5469893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06BE1-1BC5-401F-B783-359A88C6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68FC-EB39-4DB6-9BB8-5988A80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D1555-0FD0-4742-BB01-E652C7820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0B48C-F031-45C5-9A74-E94A7F2D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9063-46AA-4866-9602-95270A2FF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1438-3F51-4B7E-A338-D3C5E3C6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4DB96-8992-4647-B0FA-A9A960A6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AEA41-B584-4B67-A793-EFBC2016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59C50-F2F5-4A91-BC15-FB8F6D1C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90ED-23A0-4BCB-9608-9F6CE896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EE72C-EC9B-4E6C-B12D-6B5DAA6FF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C9E14-2A32-43C4-8F1D-BC9CEAC3F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3348-E195-404A-9CB8-20601715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182B8-5306-4E06-9BCF-E32F1AA5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E83B-4805-4727-B981-37710558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A772-5A1A-4664-A7E1-1A976D72F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0A1DB-3B5A-4B4D-81E6-56B970F8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859065-B8A9-4707-8C60-96027E2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268E-C91D-4B00-8913-9C32CF35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E7D62-373C-4AB6-82B5-F6FA6BCE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6886-B5B7-4F12-B176-C78BD7A7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17E7C-668F-488C-965C-1DAD2612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5D637-FF02-4AF9-860A-D21D33A2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F1691-7A5A-4A53-A0CA-F76F83D0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0255D-FA41-4772-A0DA-147B7F46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A39F-F402-4640-8F73-78F97C7B7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D94-496D-401E-9DB0-4F0D2BA7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19E-814C-4A15-B670-C31674E4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BFE0-1ADB-4420-B771-17F355AD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1AD0-10F6-465A-B6C7-08A99C8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D2BB-30EE-4358-9429-589A910ED11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F9A6-CD8E-4F21-88AF-37DF3A11158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D8BE-8090-41DB-B14D-2C12AFACBC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6134C-4A91-4996-9AE8-85D686C105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subject is P.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2" descr="C:\Program Files\Microsoft Office\MEDIA\CAGCAT10\j0299763.wmf"/>
          <p:cNvPicPr/>
          <p:nvPr/>
        </p:nvPicPr>
        <p:blipFill>
          <a:blip r:embed="rId1"/>
          <a:stretch/>
        </p:blipFill>
        <p:spPr>
          <a:xfrm>
            <a:off x="3048120" y="243828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book is Junie B. Jones 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Program Files\Microsoft Office\MEDIA\CAGCAT10\j0217698.wmf"/>
          <p:cNvPicPr/>
          <p:nvPr/>
        </p:nvPicPr>
        <p:blipFill>
          <a:blip r:embed="rId1"/>
          <a:stretch/>
        </p:blipFill>
        <p:spPr>
          <a:xfrm>
            <a:off x="4724280" y="2590920"/>
            <a:ext cx="3048120" cy="28191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place is WHITE LAK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Program Files\Microsoft Office\MEDIA\CAGCAT10\j0285444.wmf"/>
          <p:cNvPicPr/>
          <p:nvPr/>
        </p:nvPicPr>
        <p:blipFill>
          <a:blip r:embed="rId1"/>
          <a:stretch/>
        </p:blipFill>
        <p:spPr>
          <a:xfrm>
            <a:off x="838080" y="2819520"/>
            <a:ext cx="8153640" cy="27129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ssolve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y favorite food is Daddy’s deer me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would like to meet Taylor Swif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am afraid of sharks, bugs, and snak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HO AM 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grow up I want to be a make up artis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med" advTm="8000">
    <p:dissolve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0T13:26:51Z</dcterms:created>
  <dc:creator> pc#14</dc:creator>
  <dc:description/>
  <dc:language>en-US</dc:language>
  <cp:lastModifiedBy> </cp:lastModifiedBy>
  <dcterms:modified xsi:type="dcterms:W3CDTF">2009-11-12T19:10:08Z</dcterms:modified>
  <cp:revision>7</cp:revision>
  <dc:subject/>
  <dc:title>WHO AM I</dc:title>
</cp:coreProperties>
</file>